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FAD-5080-42D7-874E-2E6B5B6F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64A-2B94-435A-825A-EB02097C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2D4-8F9F-4DF5-814A-B0A1CEE3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72B-84AA-48E3-8A59-92DBD3C0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334-C60A-469E-9986-41DAC988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7A4-B6FE-4AB3-B7D7-A721BFA8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AA8-3C9C-4796-8468-A27C21B2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688-1E18-4572-A473-078B91CD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54F-FDAD-4C31-89C3-16BD6E43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F9D-8D13-48C1-B64A-E687BB6E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88C-D782-420E-AD1F-F96A857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ABC-C124-46EA-9113-9DAF4169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7E37-AE0B-471E-BEEB-8F0E09967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Social Media awareness campaig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2015640"/>
            <a:ext cx="368784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lective of online communications channels dedicated to community-based input, interaction, content-sharing and collabo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dvantages of Social Media Marketing for your business toda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Brand Awareness as social media is one of the most cost-efficient digital marketing methods used to syndicate content and increase your business’ vi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Customer Satisfaction through easier feedback chann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-Effective as social media marketing is possibly the most cost-efficient part of an advertising strate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sadvantages of social med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tatistic figures for social media platform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28560" y="1825560"/>
          <a:ext cx="7886880" cy="259560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  <a:gridCol w="2629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media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les 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males 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bo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sAp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ter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gr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ed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6T07:02:45Z</dcterms:created>
  <dc:creator>Bazira Paul</dc:creator>
  <dc:description/>
  <dc:language>en-US</dc:language>
  <cp:lastModifiedBy>Bazira Paul</cp:lastModifiedBy>
  <dcterms:modified xsi:type="dcterms:W3CDTF">2018-08-06T13:25:43Z</dcterms:modified>
  <cp:revision>6</cp:revision>
  <dc:subject/>
  <dc:title>PowerPoint Presentation</dc:title>
</cp:coreProperties>
</file>